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91A-C090-48B8-9DF3-10C960F6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40D-238B-4B60-955B-6938140F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BF9-3339-49B6-9F74-81EDD17D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5C0-A657-457A-94BF-DCF17BE2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B37C-2318-4265-8EAA-382A8CD4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E104-B333-400E-8770-DA346BB5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623B-9FE8-47AC-8E50-10F95A2A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5DB3-B437-4710-A15B-CADD8AA8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0D80-C322-4107-B96A-1FCC9537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220A-CBC0-48F4-90A2-B63C16D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C5B4-10C9-484C-92E6-F806E36A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C8C-FBCD-479D-8F70-BA8B6D2B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3B77-6E2D-40D1-AC78-74C97804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FCB9-F7F7-4200-821C-AA5492D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D4BC-60D3-4908-BA45-5AE09D0A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EEAD-A90C-4216-81B7-3EAA2C80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41B2-72AD-44C5-8A85-686C617F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869C-0991-4048-B02D-62E55207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9FD9-8C37-475E-A0F8-CE8E8133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C1ED4-47D5-4F63-AD10-B03E439D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60B3-5980-412C-946B-E0464980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44117-A3CC-4B30-AA2D-ACA76AB8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FBE-26FE-4F0A-9F25-7BFEBE83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2A22-3181-4D83-BB02-D1D0CE70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EB3F-6E2A-46E5-B3AE-3995E2C7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F578C-5E2C-497E-8F17-E9B35A3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4684-E613-42D4-801E-31A118F4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400C-62F2-4B3B-8EA7-4738CC2D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447B-3341-4D9D-BC86-364413C8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ACAC-DFC7-45B0-A734-8B8C13ED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7AB-05B1-4D91-A904-F307A58B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712-A010-48D1-8B6C-16BC2AA2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FE0-990A-4BD0-920F-4AA7CDB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0B2-C7CA-438B-A718-79408F59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E8F-01AE-4FB8-8223-DD29C4A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F23-699D-408D-BB62-69DFF7F2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DD0D-C73A-4C29-AD31-1FD37063934D}" type="slidenum"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6AD1-684B-4915-A8A5-10274C3F729B}" type="slidenum"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0A52-676C-44FA-882B-089161B57B79}" type="slidenum"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snovni hvatovi u manuelnoj masa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ž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 dr Tanja 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ljanje (fric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ršnim tkivom masira se dublje (potkož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veće trenje, sporiji i snažniji rit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: povećanje elastičnosti i kontraktilnosti mišić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ožiljke, adhezije, fibrozna zadeblj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384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5331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ši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z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dijum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s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z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ajaj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kožno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uj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l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jev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narni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langealni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globovim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s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ij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č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di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c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ta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s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c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ni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ka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eč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k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ž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šestra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a za trlj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rši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isa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ga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isa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trljan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grev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kš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ez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žiljak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kul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pilar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č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globo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s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ener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ječenje (pretis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a masaž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ža mišića, aparaturno nezamenj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: hiperemija mišića, smanjenje tonusa, eliminacija metabol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5843520" y="2133720"/>
            <a:ext cx="2691000" cy="358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a gnječ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sk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i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iz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nič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krivlje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c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s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jak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begava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ks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akci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etiji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di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žni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ipa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kaka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mere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l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gnječ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ci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čk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pad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ž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v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m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oljša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ran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aj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bij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ez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ez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ljivost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c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n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pkanje (percus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i ritmični odsečni udari naizmenič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narnom strano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kanje”,volarnom stranom “pljeskanj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dicam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stij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ckanj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:poboljšava metabolizam i tonus  mišića, stimulativ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3356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a lupk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cesivn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ar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mič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peu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ać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akt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ijento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jak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pka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tonič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c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s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di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štani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j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koleni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šic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olus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prek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o bubreg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at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čm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lupk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ci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n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n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kul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enzitizacij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rše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št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 nervn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d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ž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acije (vibr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i, uzastopni potresi segmenata koji se masi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: smanjuje nadražljivost i prag za b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ati za vibromasaž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33530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odela mehanoterap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nuelna mas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jalni oblici mas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paraturna mas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ipobar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nuelne terapijske tehnik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manipulaci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sktenzione procedure (trakci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erapija (infra i ultrazv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533520" y="-311040"/>
            <a:ext cx="80010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res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pere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rhtav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lj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sti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anom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egava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or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apeu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avl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a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lo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manje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10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žefrekvent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braci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uj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dativ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okofrekvent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ažaj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447920" y="379440"/>
            <a:ext cx="54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Pravila za vibracij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vibr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ksaci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kul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ci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oceptor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zitivnost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idačk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ak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c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ražaj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09480" y="-228600"/>
            <a:ext cx="82296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hvatov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ešlj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zum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snu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ni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vi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ivn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šićn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l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zaln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n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stendirani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stij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9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karpofalangealni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lobovi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j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j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šić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k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vrs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log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me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k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Štipk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upk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iv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ce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žiprst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an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štin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voj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log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žiljak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zij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že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a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ez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st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nov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av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ic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i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aljavaj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žuć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ž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žiljak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zij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res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čn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bracija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ret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ik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stremiteti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me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šak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res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iv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manje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k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e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šti efekti masaž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 mišićnog ton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t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 opšteg zam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acij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ks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 TA, regulacija pul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č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ološki efekti masaž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ni efek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em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rpcija oto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č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 aktivnosti znojnih i lojnih žlez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 turgora i elastičnosti kož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oljšanje epitelizacije i granul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tski, spazmolitičk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cije za opštu masaž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vanlescen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ktivi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en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me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cije za lokalnu masaž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traumatske prom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žilj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ak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matska oboljenja u sub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no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h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stične i mlitave paral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ktivitetna slab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ovi (reumatski, išijadični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d u kineziterapi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aindikacije z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u 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ž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aljenski procesi kože i potkožnog tk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čni procesi na zglobov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fagitis, trombofleb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kozite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olonost ka krvare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 manuelne masaž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i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etlj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oko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jum (talk, vazel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NE masirat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že ožiljke, rane, varikozit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jalni vidovi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masaž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eko tačaka na koži deluje na organe koji imaju isti nivo spinalne inerv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od oboljenja unutrašnjih organa, nervnog sistema i zglobova, u zoni koja ima isti nivo spinalne inervacije, javljaju se promene na površini (u koži, potkožnom tkivu, mišićima i periostu) koje održavaju osnovno obolje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c0504d"/>
                </a:solidFill>
                <a:latin typeface="Calibri"/>
              </a:rPr>
              <a:t>postaju izvor patoloških impul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Vrste masaže (prema namen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terapijska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klasična manuelna masa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limfna drena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refleksna masa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sport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gijen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rste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jal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e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masa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ja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om masažom se otkrivaju  patološke promene u refleksnim zonama i deluje na nji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seb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om masažom radi njihovog otklanj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vezivnog tk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perio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nervnih t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egmentna mas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Masaža vezivnog tk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ovećanje tenzije veziva u Hedovim zonama, reljef kože izmenjen, čvorići u  potkožnom tkivu, slojevi manje pokret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angecijalno povlačenje kože i potkožnog tkiva od fascije jagodicama 3. i 4.prsta; u pravcu linija rascepa uz lak, oštar bol,15-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lkus, spazmi m.bešike,išija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eriostna masaž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tkriva neravnine u vidu udubljenja i izbočenja- periostne tačke i blok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agodicom srednjeg prsta 1 u se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-5 min, pritisak se pojačava kažiprs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tenokardije, ulkus želuca i dvanaestopalačnog,glavobolja, neuralgij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egmentna masaž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onalaženje patoloških promena po slojev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brada refleksogenih zona u koži, potkožnom tkivu, mišićima, periostu.. klasičnim hvatovima, 20 min, na II 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zražena hiperemija i odsustvo jakog bo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ronična KVS,RS,ginekološka,glavobolje, išijalgij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nuelna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sa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ž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todi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i pokret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ruku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erapeuta na telu pacijenta (,,pasivna kineziterapija,,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Dvojak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draženje ekstero, proprio i interoceptora – refleksne promene na unutrašnjim organ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ktno dejstvo na tk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mer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tisa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elič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menje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i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eć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tisak-sporije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nj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š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iram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la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št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š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iram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vr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aka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la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tisa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eć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kre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rij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ub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vaki hvat ciljano deluje na određeno tk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elič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ši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ra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jem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dni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vat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vis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og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rape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e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retir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el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j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da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išić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išićn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rup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j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33520" y="612720"/>
            <a:ext cx="746748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žnih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tova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a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avlj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dnačenos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žni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it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a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veće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tiranj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g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sle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i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ž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ši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štaju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đenje (effleur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4724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dni i završni hv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d periferije ka cen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a gradijentom priti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ručno ili dvoručno, istovremeno ili naizmenič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n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ar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tenar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zum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k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godicam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sti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olinijsk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žn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ršn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ok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uje na površna tk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048120" cy="4038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glađ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ijent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noš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ju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grev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ršinsk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az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to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mor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čnij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to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oljš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kul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fotok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rujuć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šuć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jstv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tiran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j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šć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umrl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el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ret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j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j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lezd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rpc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šljanj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vrsta glađ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zalnom stranom prstiju šake koja je savijena u pesni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281952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Info</cp:lastModifiedBy>
  <dcterms:modified xsi:type="dcterms:W3CDTF">2018-08-13T20:31:28Z</dcterms:modified>
  <cp:revision>60</cp:revision>
  <dc:subject/>
  <dc:title>MEHANOTERAPIJA </dc:title>
</cp:coreProperties>
</file>